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203-C635-4206-9746-0A6677B0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A3C-7E1B-4CC6-BD9D-1D6DD2A4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E25-EAD2-4024-8BB6-DDAE1873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509-5481-4584-8873-36D4D1AA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FE8-24D4-4741-928D-980B19F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E4D-75E5-47FD-842A-8666AD0E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7E1-7227-458B-B300-16478B8C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ED5-8DF0-417C-8D70-28082529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63F-0CA4-4674-9B84-D5E577DD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78C-197C-4D58-BAEC-F51AE9CA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B96-C6BE-4F5D-9614-FA8C689D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519-7ADB-4064-A72F-40D20FEA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06C6-E1EA-49DA-B9FF-61FBA3ACB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7219758DxrZZt_ph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م الذينَ اعتَمَدتُم في المسيحْ قد لبِستُمُ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98066guZQrOLuC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43864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ميعُكم أبناءُ اللهِ بالإيمانِ بيسوعَ المسي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P-KAF0059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81680" y="457200"/>
            <a:ext cx="1981440" cy="85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Times New Roman"/>
                <a:cs typeface="Arabic Transparent"/>
              </a:rPr>
              <a:t>أما تعلمونَ أنَّ أجسادّكُم هي هَيكَلُ الروحِ القد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52242359KjXGwQ_ph" descr=""/>
          <p:cNvPicPr/>
          <p:nvPr/>
        </p:nvPicPr>
        <p:blipFill>
          <a:blip r:embed="rId1"/>
          <a:stretch/>
        </p:blipFill>
        <p:spPr>
          <a:xfrm>
            <a:off x="0" y="0"/>
            <a:ext cx="50068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1066680"/>
            <a:ext cx="335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جّدوا اللهَ واحملوهُ في أجسادكم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19:48Z</dcterms:created>
  <dc:creator>SUZANNE.MD</dc:creator>
  <dc:description/>
  <dc:language>en-US</dc:language>
  <cp:lastModifiedBy>USER</cp:lastModifiedBy>
  <dcterms:modified xsi:type="dcterms:W3CDTF">2003-01-07T16:16:12Z</dcterms:modified>
  <cp:revision>2</cp:revision>
  <dc:subject/>
  <dc:title>PowerPoint Presentation</dc:title>
</cp:coreProperties>
</file>